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media/image9.jpeg" ContentType="image/jpeg"/>
  <Override PartName="/ppt/media/image10.jpeg" ContentType="image/jpeg"/>
  <Override PartName="/ppt/media/image12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EB6-8803-4935-B633-54CE73C2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7F2-AD86-4F0A-AA6E-5A5746C2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9EE9-D9C9-4B37-B2A4-AF705C610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FF7-C46C-4938-93EB-AEB1A5D7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7E33-E280-4369-88CB-2EC7D224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CDA2-FB6C-4A9B-BAA7-0D2F09AE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8119-1691-41D0-971E-9365527E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9CF-4485-4F58-A674-CDD2415F0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73DF-E74B-40F7-B38E-2823F956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8CB-6EB2-40CD-A8AE-6243CDA0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59C-46E8-4BA9-8F99-776EBDCF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091A-9880-4104-980A-4267EAD4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FF0C-73E2-4075-9E10-764D0040FD14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SimSu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520AF-2DBD-46A6-BE96-B92450FC4B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有一位朋友。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581280" y="1938240"/>
            <a:ext cx="311796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SimSun"/>
              </a:rPr>
              <a:t>我四十八岁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3006720" y="1961640"/>
            <a:ext cx="3619440" cy="452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比他大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SimSun"/>
              </a:rPr>
              <a:t>        </a:t>
            </a:r>
            <a:r>
              <a:rPr b="0" lang="en-US" sz="9600" spc="-1" strike="noStrike">
                <a:solidFill>
                  <a:srgbClr val="000000"/>
                </a:solidFill>
                <a:latin typeface="Calibri"/>
                <a:ea typeface="SimSun"/>
              </a:rPr>
              <a:t>48 &gt; 39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明白了土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5715000" y="1600200"/>
            <a:ext cx="3008160" cy="4525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C:\Documents and Settings\lsabey\Local Settings\Temporary Internet Files\Content.IE5\NFJFH6QS\MPj04364350000[1].jpg"/>
          <p:cNvPicPr/>
          <p:nvPr/>
        </p:nvPicPr>
        <p:blipFill>
          <a:blip r:embed="rId2"/>
          <a:stretch/>
        </p:blipFill>
        <p:spPr>
          <a:xfrm>
            <a:off x="609480" y="2286000"/>
            <a:ext cx="52578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ja-JP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也明白了天上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C:\Documents and Settings\lsabey\Local Settings\Temporary Internet Files\Content.IE5\YSZGR4KJ\MPj04327050000[1].jpg"/>
          <p:cNvPicPr/>
          <p:nvPr/>
        </p:nvPicPr>
        <p:blipFill>
          <a:blip r:embed="rId1"/>
          <a:stretch/>
        </p:blipFill>
        <p:spPr>
          <a:xfrm>
            <a:off x="1371600" y="1523880"/>
            <a:ext cx="640080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不是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4" descr="C:\Documents and Settings\lsabey\Local Settings\Temporary Internet Files\Content.IE5\NFJFH6QS\MCj04039410000[1].wmf"/>
          <p:cNvPicPr/>
          <p:nvPr/>
        </p:nvPicPr>
        <p:blipFill>
          <a:blip r:embed="rId1"/>
          <a:stretch/>
        </p:blipFill>
        <p:spPr>
          <a:xfrm>
            <a:off x="3200400" y="1500120"/>
            <a:ext cx="281952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不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nry David Thoreau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Documents and Settings\lsabey\Local Settings\Temporary Internet Files\Content.IE5\YSZGR4KJ\MCj02420010000[1].wmf"/>
          <p:cNvPicPr/>
          <p:nvPr/>
        </p:nvPicPr>
        <p:blipFill>
          <a:blip r:embed="rId1"/>
          <a:stretch/>
        </p:blipFill>
        <p:spPr>
          <a:xfrm>
            <a:off x="2895480" y="1905120"/>
            <a:ext cx="331164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的朋友不是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erson's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的朋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C:\Documents and Settings\lsabey\Local Settings\Temporary Internet Files\Content.IE5\YSZGR4KJ\MCBS01884_0000[1].wmf"/>
          <p:cNvPicPr/>
          <p:nvPr/>
        </p:nvPicPr>
        <p:blipFill>
          <a:blip r:embed="rId1"/>
          <a:stretch/>
        </p:blipFill>
        <p:spPr>
          <a:xfrm>
            <a:off x="3048120" y="2362320"/>
            <a:ext cx="3628800" cy="36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我的朋友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2762280" y="1599840"/>
            <a:ext cx="3619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大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 Anderso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  <p:sp>
        <p:nvSpPr>
          <p:cNvPr id="96" name="Rectangular Callout 5"/>
          <p:cNvSpPr/>
          <p:nvPr/>
        </p:nvSpPr>
        <p:spPr>
          <a:xfrm rot="14722200">
            <a:off x="2722320" y="2816280"/>
            <a:ext cx="1326960" cy="2146320"/>
          </a:xfrm>
          <a:prstGeom prst="wedgeRectCallout">
            <a:avLst>
              <a:gd name="adj1" fmla="val -13083"/>
              <a:gd name="adj2" fmla="val 6323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 rot="14869800">
            <a:off x="2878200" y="2697840"/>
            <a:ext cx="7290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Hello, My name is Tim And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在找</a:t>
            </a:r>
            <a:r>
              <a:rPr b="1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他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7" descr="C:\Documents and Settings\lsabey\Local Settings\Temporary Internet Files\Content.IE5\YSZGR4KJ\MPj04072510000[1].jpg"/>
          <p:cNvPicPr/>
          <p:nvPr/>
        </p:nvPicPr>
        <p:blipFill>
          <a:blip r:embed="rId1"/>
          <a:stretch/>
        </p:blipFill>
        <p:spPr>
          <a:xfrm rot="20763000">
            <a:off x="2841120" y="1572840"/>
            <a:ext cx="38498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我的朋友</a:t>
            </a:r>
            <a:r>
              <a:rPr b="0" lang="ja-JP" sz="4400" spc="-1" strike="noStrike">
                <a:solidFill>
                  <a:srgbClr val="ff0000"/>
                </a:solidFill>
                <a:latin typeface="Calibri"/>
                <a:ea typeface="ＭＳ Ｐゴシック"/>
              </a:rPr>
              <a:t>住</a:t>
            </a: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在山下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1828800" y="2058840"/>
            <a:ext cx="5715000" cy="3805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Documents and Settings\lsabey\Local Settings\Temporary Internet Files\Content.IE5\Q1HN1WZ2\MCj04414430000[1].png"/>
          <p:cNvPicPr/>
          <p:nvPr/>
        </p:nvPicPr>
        <p:blipFill>
          <a:blip r:embed="rId2"/>
          <a:stretch/>
        </p:blipFill>
        <p:spPr>
          <a:xfrm>
            <a:off x="3657600" y="3962520"/>
            <a:ext cx="22096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是一位文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C:\Documents and Settings\lsabey\Local Settings\Temporary Internet Files\Content.IE5\NFJFH6QS\MCj02864560000[1].wmf"/>
          <p:cNvPicPr/>
          <p:nvPr/>
        </p:nvPicPr>
        <p:blipFill>
          <a:blip r:embed="rId1"/>
          <a:stretch/>
        </p:blipFill>
        <p:spPr>
          <a:xfrm>
            <a:off x="3887640" y="2560680"/>
            <a:ext cx="1368720" cy="1736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Documents and Settings\lsabey\Local Settings\Temporary Internet Files\Content.IE5\NFJFH6QS\MCj02864560000[1].wmf"/>
          <p:cNvPicPr/>
          <p:nvPr/>
        </p:nvPicPr>
        <p:blipFill>
          <a:blip r:embed="rId2"/>
          <a:stretch/>
        </p:blipFill>
        <p:spPr>
          <a:xfrm>
            <a:off x="3887640" y="2560680"/>
            <a:ext cx="1368720" cy="1736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C:\Documents and Settings\lsabey\Local Settings\Temporary Internet Files\Content.IE5\NFJFH6QS\MCj02864560000[1].wmf"/>
          <p:cNvPicPr/>
          <p:nvPr/>
        </p:nvPicPr>
        <p:blipFill>
          <a:blip r:embed="rId3"/>
          <a:stretch/>
        </p:blipFill>
        <p:spPr>
          <a:xfrm>
            <a:off x="2971800" y="1981080"/>
            <a:ext cx="3119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他</a:t>
            </a:r>
            <a:r>
              <a:rPr b="0" lang="zh-CN" sz="4400" spc="-1" strike="noStrike">
                <a:solidFill>
                  <a:srgbClr val="ff0000"/>
                </a:solidFill>
                <a:latin typeface="Calibri"/>
                <a:ea typeface="SimSun"/>
              </a:rPr>
              <a:t>喜欢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山下的土地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1173240" y="1600200"/>
            <a:ext cx="6797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山下的土地是文人的脚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iǎo  foo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C:\Documents and Settings\lsabey\Local Settings\Temporary Internet Files\Content.IE5\GBG05ZIE\MPj04340640000[1].jpg"/>
          <p:cNvPicPr/>
          <p:nvPr/>
        </p:nvPicPr>
        <p:blipFill>
          <a:blip r:embed="rId1"/>
          <a:stretch/>
        </p:blipFill>
        <p:spPr>
          <a:xfrm>
            <a:off x="2249640" y="2362320"/>
            <a:ext cx="5370480" cy="3576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Documents and Settings\lsabey\Local Settings\Temporary Internet Files\Content.IE5\NFJFH6QS\MCj04160140000[1].wmf"/>
          <p:cNvPicPr/>
          <p:nvPr/>
        </p:nvPicPr>
        <p:blipFill>
          <a:blip r:embed="rId2"/>
          <a:stretch/>
        </p:blipFill>
        <p:spPr>
          <a:xfrm rot="4542000">
            <a:off x="1394640" y="4835160"/>
            <a:ext cx="1854360" cy="18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他说山下的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天空【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ānkōng the heavens 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是文人的眼睛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ey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C:\Documents and Settings\lsabey\Local Settings\Temporary Internet Files\Content.IE5\YSZGR4KJ\MPj04328900000[1].jpg"/>
          <p:cNvPicPr/>
          <p:nvPr/>
        </p:nvPicPr>
        <p:blipFill>
          <a:blip r:embed="rId1"/>
          <a:stretch/>
        </p:blipFill>
        <p:spPr>
          <a:xfrm>
            <a:off x="1295280" y="2057400"/>
            <a:ext cx="6400800" cy="4267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C:\Documents and Settings\lsabey\Local Settings\Temporary Internet Files\Content.IE5\YSZGR4KJ\MPj04328430000[1].jpg"/>
          <p:cNvPicPr/>
          <p:nvPr/>
        </p:nvPicPr>
        <p:blipFill>
          <a:blip r:embed="rId2"/>
          <a:stretch/>
        </p:blipFill>
        <p:spPr>
          <a:xfrm>
            <a:off x="1295280" y="2057400"/>
            <a:ext cx="12956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SimSun"/>
              </a:rPr>
              <a:t>这个朋友是大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5" descr="C:\Documents and Settings\lsabey\Local Settings\Temporary Internet Files\Content.IE5\YSZGR4KJ\MPj04386320000[1].jpg"/>
          <p:cNvPicPr/>
          <p:nvPr/>
        </p:nvPicPr>
        <p:blipFill>
          <a:blip r:embed="rId1"/>
          <a:stretch/>
        </p:blipFill>
        <p:spPr>
          <a:xfrm>
            <a:off x="3067200" y="1600200"/>
            <a:ext cx="300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SimSun"/>
              </a:rPr>
              <a:t>他三十九岁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21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8400" spc="-1" strike="noStrike">
                <a:solidFill>
                  <a:srgbClr val="ff0000"/>
                </a:solidFill>
                <a:latin typeface="Calibri"/>
              </a:rPr>
              <a:t>39</a:t>
            </a: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1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14:49Z</dcterms:created>
  <dc:creator>itsuser</dc:creator>
  <dc:description/>
  <dc:language>en-US</dc:language>
  <cp:lastModifiedBy>itsuser</cp:lastModifiedBy>
  <dcterms:modified xsi:type="dcterms:W3CDTF">2009-05-20T14:35:56Z</dcterms:modified>
  <cp:revision>11</cp:revision>
  <dc:subject/>
  <dc:title>  我有一位朋友。         </dc:title>
</cp:coreProperties>
</file>